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12.png" ContentType="image/png"/>
  <Override PartName="/ppt/media/image26.png" ContentType="image/png"/>
  <Override PartName="/ppt/media/image37.jpeg" ContentType="image/jpeg"/>
  <Override PartName="/ppt/media/image50.png" ContentType="image/png"/>
  <Override PartName="/ppt/media/image40.jpeg" ContentType="image/jpeg"/>
  <Override PartName="/ppt/media/image44.jpeg" ContentType="image/jpeg"/>
  <Override PartName="/ppt/media/image32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7.wmf" ContentType="image/x-wmf"/>
  <Override PartName="/ppt/media/image30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1.jpeg" ContentType="image/jpeg"/>
  <Override PartName="/ppt/media/image48.jpeg" ContentType="image/jpeg"/>
  <Override PartName="/ppt/media/image13.wmf" ContentType="image/x-wmf"/>
  <Override PartName="/ppt/media/image3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6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4B2E-1F12-4EA8-B4C2-CEA42372726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每年香港製造最多哪一類塑膠廢物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一類：膠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VC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類塑膠廢棄物焚燒時會產生有毒之氣體如氯化氫及甲醛、多氯聯苯和戴奧辛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類塑膠燃燒時會產生黑煙，造成空氣污染。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若不焚燒，而掩埋於地下，則不僅需要廣大的空間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也因塑膠具備不易腐爛分解的特性（一般塑膠分解約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）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影響土壤本身的物理及化學性質，導致土壤污染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至若隨意丟棄，則會造成灌溉溝渠堵塞，影響水溝排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猜猜哪類塑膠可以回收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第三和第七類塑膠較為困難（因為第三類塑膠在回收處理過程中會釋出有毒氣體，而第七類塑膠由混合塑膠製造而成，較難分類回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420-6752-4D1D-BA14-B125900F96C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市民該如何在塑膠廢物問題上盡公民責任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響應、推動及參與環保活動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資料一：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華懋慈善行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公民</a:t>
            </a: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參與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、身體力行、坐言起行</a:t>
            </a: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二：</a:t>
            </a:r>
            <a:r>
              <a:rPr b="0" lang="zh-HK" sz="1200" spc="-1" strike="noStrike">
                <a:solidFill>
                  <a:srgbClr val="000000"/>
                </a:solidFill>
                <a:latin typeface="Calibri"/>
              </a:rPr>
              <a:t>「再救龍尾行動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改變生活習慣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三：</a:t>
            </a:r>
            <a:r>
              <a:rPr b="0" lang="zh-HK" sz="1200" spc="-1" strike="noStrike">
                <a:solidFill>
                  <a:srgbClr val="000000"/>
                </a:solidFill>
                <a:latin typeface="Calibri"/>
              </a:rPr>
              <a:t>支持購買環保傢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實行源頭減廢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四：進行廢物源頭分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提升個人環保知識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五：主動了解及實踐環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2CF-1E19-4612-BE78-6C686CDFEF5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中人物是誰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左：黃錦星（現任環境局局長）─政府代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中：李嘉誠（長江集團董事局主席）－商界代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右：莫皓光、或稱野人（自然脈絡創辦人，積極推動低炭生活，其「環保婚禮」被傳媒廣泛報導）－市民／環保團體代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3CB-632D-40E2-B1C1-3E0FE556A22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持份者的關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學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企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其他：環保機構、政府、立法會、家庭、塑膠業製造者、回收業業界人士、社會企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持份者必須同力合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學校進行環保教育，社區、家庭會是實踐的重要渠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政府推行膠袋徵稅，需要與企業達成共識，也需要市民支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人士喚起社會各界對保育龍尾灘的關注，左右立法會撥款及政府發展計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F6C-D907-4E9E-B9DA-F267576515B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知道這品牌的發源地是哪裡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瑞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5FC-CF74-419C-A547-6511F6DCBF0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提問：我們對於環境的責任，是否只是減低塑膠廢物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應學習瑞典，在不同方面推廣環保：成為綠色都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0AD-11DF-46CC-8612-D7160C71B3C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就片段所言，瑞典人是如何處理塑膠廢物的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先將垃圾分類：廚餘／可燃／不可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透過地下高壓真空的自動輸送系統，以地下吸管，把垃圾直接吸到兩公里以外的中央處理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整個過程不需要垃圾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除垃圾處理外，片段還指出瑞士人如何在以下方面保護環境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交通：</a:t>
            </a:r>
            <a:r>
              <a:rPr b="0" lang="zh-HK" sz="1200" spc="-1" strike="noStrike" u="sng">
                <a:solidFill>
                  <a:srgbClr val="000000"/>
                </a:solidFill>
                <a:uFillTx/>
                <a:latin typeface="Calibri"/>
              </a:rPr>
              <a:t>減排節能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例子：公共運輸不排放廢氣、的士使用再生循環燃油、交通燈使用省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、晚上使用環保燈泡照明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市民習慣</a:t>
            </a:r>
            <a:r>
              <a:rPr b="0" lang="zh-HK" sz="1200" spc="-1" strike="noStrike" u="sng">
                <a:solidFill>
                  <a:srgbClr val="000000"/>
                </a:solidFill>
                <a:uFillTx/>
                <a:latin typeface="Calibri"/>
              </a:rPr>
              <a:t>：分類垃圾、節能生活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例子：騎單車、走路、乘搭公共交通工具、進行垃圾分類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建築：環保省電建築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例子：大窗戶和露台，有助採光、屋頂傾斜設計可收集雨水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當中需要甚麼社會配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電動車優先停泊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循環暖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垃圾地下輸送系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FAAE-0778-4455-ACEA-55D55BA50F5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香港有何條件學習瑞典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和瑞典都是已發展的城市，具經濟條件發展環保科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何困難、機遇？預計要增加甚麼配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機遇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提升香港國際形象和競爭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時可推行：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、發展單車徑、教育市民培養分類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需長遠規劃：地下垃圾運輸系統、電動車、採光設計、雨水收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困難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需由不同持份者合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地產商或不願意投資進行環保設計，因為利益不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城市規劃需要很長的時間，而且規劃過程中影響很多市民的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02F-5874-482E-A963-591BD4CAABE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FA67-45DD-4600-9F69-7BD813FA3AF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對比學生張貼在黑板上白字卡的內容和簡報上的圖表，指出學生在哪方面有缺欠的地方需加以改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667-BECC-493B-9CCE-32BCCA7B384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CAB-B3BC-4FB3-93CC-458E93389FD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69A6-9D37-4B4C-AFD8-F6F86ED02B5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3B41-7064-4334-BBD3-26F609E6362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知道這款水樽屬於哪一種塑膠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一類的塑膠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覺得這款產品方便回收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方便，因為加重了回收工人的工作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款水樽有甚麼優點／缺點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優點：可減輕廢物容量和堆填空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缺點：市民誤以為水樽環保，多了購買瓶裝水，事實上製造了更多固體廢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怎樣才是最環保的生活習慣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自攜水樽外出，減少購買瓶裝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9B88-91B2-4F5F-8086-F778782EBD9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乙烯對苯二甲酸脂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T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通常是無色透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的加色成淺綠、淺藍或茶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瓶底有一圓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一體成型無接縫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耐高溫（耐溫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5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高密度聚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DPE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透明（清潔劑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或半透明（牛奶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手感似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耐腐蝕性液體之侵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比較耐高溫（耐溫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0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B760-5124-4A31-8A21-2EA025CB0AE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氯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VC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瓶底有一條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用力折會有白痕出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多應用在非食品方面，像水管、雨衣、書包、建材、塑膠膜、塑膠盒等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由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C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含有氯元素，在製瓶、填充、回收再處理之過程中可能會釋出氯乙烯有毒單體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C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有危害人體健康之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低密度聚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DPE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七種塑膠之中是最柔軟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414D-3720-44A2-8B0E-1E56C85BD4D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硬度高，耐碰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放入微波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說是二兄弟，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若干物理性能及機械性能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好，因此製瓶商常以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製造瓶身，瓶蓋和把手用有較大硬度與強度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來製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很難分出，一般來說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硬度較高，且表面較有光澤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則像蠟製器，燃燒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蠟燭味較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苯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擊易脆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發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主要應用於發酵乳品（如養樂多、優格等乳酸產品）的容器，近年來亦大量使用於製成免洗餐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發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俗稱發泡膠─避免裝填滾燙開水，油炸食品、含酒精或柑橘類飲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647B-7698-4F92-8746-7962A0F0FDC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其他所有未列出之樹脂及混合料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產品的特性需視乎塑膠製品用甚麼塑膠原料製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回收處理上較困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29ED-1605-49D4-B03A-9B73B704D84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B9C-9001-4149-856C-81F02EAC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9DF-290C-43C1-87A6-AD9B0E3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DA6-BEDE-4AC0-8180-9D504134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A0A-6FAA-4CE7-AB52-65647F64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AFB-7953-4CE5-AC0B-66134B4A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FB52-2DEB-4DAC-B082-4D35FE87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F5E-6BC1-4D7B-B78C-AB47ED19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4134-1585-45F4-911C-5F61EE3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00F8-079C-43D9-9A40-3B92F0E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C967-2F70-4389-B1A9-CF0B7345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563A-6274-4368-9D05-2BE0671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E17-3FB2-46EF-99B9-B729663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2C5-23AA-4A6E-AE88-053BA7F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9886-CCA8-4C8E-9574-92FFB00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63BC-647D-4C65-9C9D-20EFF673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033-39C7-4AD1-9251-0964F642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3ECF-5DBA-4085-BB64-9BDC1934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43F46-0AC0-4CB1-9932-B6E319B7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74B06-C58A-4500-87F6-B29D09D0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104C-27D0-409F-A5F5-9E554708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10F9B-6A02-4C04-BCE3-2EEB6F8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0E52D-D0D3-42CC-A37E-22C5B4E8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57F-6C50-4929-B79A-2DC6D11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EE524-31DB-4FD9-A7FA-4490AB22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2695B-B8E2-49DC-BA09-71202CB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67810-DCB4-4BCE-8A70-BBEC2162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3A53A-2F76-4E1D-8B86-8457AC0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53A9D-B31B-49ED-AEEF-A4DBC1B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0E472-6706-4C11-827D-9D8A154E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0120F-ECF9-4A3E-95FA-A448A833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C870-5319-4EF8-806D-C3AD3C74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B8EE-CBA4-4D17-BACD-8C359DEF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79BE-A8D8-4292-A1E8-D0AEE70A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570-FE95-417C-88D2-D66D4DF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4C81-5FE7-4FA7-BF88-F314DF9C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FD42-983A-47A3-A7EB-C1496AD8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4239-EB26-4CE0-B6DA-2D18AE9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0F47-0606-4BC9-9458-4EB9651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01DBD-F5CD-43E2-B671-41731E3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6BA2-177C-44F4-8AB4-3C3DE3C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A6122-9588-458A-ABBD-E4C357AD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D4AE-2D1A-406F-A0E0-63E8214A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DEC5-BB6B-4BA8-8394-87E545CF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7D5-208C-44DD-9833-1DAADD51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B8D-2387-469B-9856-46DA5844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6BF-61C8-4F53-866F-5DFFDB8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7C4-7DFC-4C82-AD0F-8FD775D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BF7-32CB-49B7-BC1C-420AE4F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733D-72E5-4064-814B-36DF09E3F2A0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592-702F-4475-86DA-B980147E7D32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cb4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cb4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cb4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2E1A-88B8-4FDF-873B-D07CB82369FE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C5D1-A26E-437E-A086-81F8EDF2A90F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EF4-3706-4EF5-A82B-52DC2C0A0B23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F272-5F5E-4273-BB6D-AB50C2055DEB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C39-EC9F-4FB9-BA59-71B86E08E270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732-EEAA-4D11-9CD2-3EA4BD39F22C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vWEpotwGEw&amp;feature=relmf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EQkP0KOMFQ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rebuchet MS"/>
              </a:rPr>
              <a:t>課節五：環保回收，不分你我他</a:t>
            </a:r>
            <a:endParaRPr b="0" lang="en-US" sz="44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319960" y="1440"/>
            <a:ext cx="747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54C2-A74A-4731-9CDB-A84B5D5B8B88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Cloud Callout 3"/>
          <p:cNvGrpSpPr/>
          <p:nvPr/>
        </p:nvGrpSpPr>
        <p:grpSpPr>
          <a:xfrm>
            <a:off x="579600" y="743040"/>
            <a:ext cx="3693960" cy="2500200"/>
            <a:chOff x="579600" y="743040"/>
            <a:chExt cx="3693960" cy="2500200"/>
          </a:xfrm>
        </p:grpSpPr>
        <p:pic>
          <p:nvPicPr>
            <p:cNvPr id="299" name="Cloud Callout 3" descr=""/>
            <p:cNvPicPr/>
            <p:nvPr/>
          </p:nvPicPr>
          <p:blipFill>
            <a:blip r:embed="rId1"/>
            <a:stretch/>
          </p:blipFill>
          <p:spPr>
            <a:xfrm>
              <a:off x="579600" y="743040"/>
              <a:ext cx="369396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12760" y="1135080"/>
              <a:ext cx="237492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每年香港製造最多哪一類塑膠廢物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Cloud Callout 4"/>
          <p:cNvGrpSpPr/>
          <p:nvPr/>
        </p:nvGrpSpPr>
        <p:grpSpPr>
          <a:xfrm>
            <a:off x="4406760" y="615960"/>
            <a:ext cx="4432320" cy="3108240"/>
            <a:chOff x="4406760" y="615960"/>
            <a:chExt cx="4432320" cy="3108240"/>
          </a:xfrm>
        </p:grpSpPr>
        <p:pic>
          <p:nvPicPr>
            <p:cNvPr id="302" name="Cloud Callout 4" descr=""/>
            <p:cNvPicPr/>
            <p:nvPr/>
          </p:nvPicPr>
          <p:blipFill>
            <a:blip r:embed="rId2"/>
            <a:stretch/>
          </p:blipFill>
          <p:spPr>
            <a:xfrm>
              <a:off x="4406760" y="615960"/>
              <a:ext cx="443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137200" y="1135080"/>
              <a:ext cx="268128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你在日常生活中最經常使用的是哪類塑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Cloud Callout 5"/>
          <p:cNvSpPr/>
          <p:nvPr/>
        </p:nvSpPr>
        <p:spPr>
          <a:xfrm>
            <a:off x="826920" y="3573360"/>
            <a:ext cx="3888000" cy="2664000"/>
          </a:xfrm>
          <a:prstGeom prst="cloudCallout">
            <a:avLst>
              <a:gd name="adj1" fmla="val -43282"/>
              <a:gd name="adj2" fmla="val 47675"/>
            </a:avLst>
          </a:prstGeom>
          <a:solidFill>
            <a:srgbClr val="92d050">
              <a:alpha val="44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你會怎樣處理以上用完的塑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Cloud Callout 6"/>
          <p:cNvGrpSpPr/>
          <p:nvPr/>
        </p:nvGrpSpPr>
        <p:grpSpPr>
          <a:xfrm>
            <a:off x="4973760" y="3554280"/>
            <a:ext cx="3365280" cy="2584440"/>
            <a:chOff x="4973760" y="3554280"/>
            <a:chExt cx="3365280" cy="2584440"/>
          </a:xfrm>
        </p:grpSpPr>
        <p:pic>
          <p:nvPicPr>
            <p:cNvPr id="306" name="Cloud Callout 6" descr=""/>
            <p:cNvPicPr/>
            <p:nvPr/>
          </p:nvPicPr>
          <p:blipFill>
            <a:blip r:embed="rId3"/>
            <a:stretch/>
          </p:blipFill>
          <p:spPr>
            <a:xfrm>
              <a:off x="4973760" y="3554280"/>
              <a:ext cx="336528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460840" y="3943440"/>
              <a:ext cx="216396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猜猜哪類塑膠可以回收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740-AED2-4F28-8BCB-825FAD444DEC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4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小組討論：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360" y="1267920"/>
            <a:ext cx="94694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Georgia"/>
              </a:rPr>
              <a:t>題目一：香港市民該如何在塑膠廢物問題的處理方面作出行動？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738440" y="3830760"/>
            <a:ext cx="94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zh-HK" sz="1000" spc="-1" strike="noStrike">
                <a:solidFill>
                  <a:srgbClr val="000000"/>
                </a:solidFill>
                <a:latin typeface="Arial"/>
              </a:rPr>
              <a:t>華懋慈善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95DC-5E82-4547-8707-A41A64738DCB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walk_03"/>
          <p:cNvPicPr/>
          <p:nvPr/>
        </p:nvPicPr>
        <p:blipFill>
          <a:blip r:embed="rId1"/>
          <a:stretch/>
        </p:blipFill>
        <p:spPr>
          <a:xfrm>
            <a:off x="1547640" y="1989000"/>
            <a:ext cx="3326040" cy="1871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22ls4p3n"/>
          <p:cNvPicPr/>
          <p:nvPr/>
        </p:nvPicPr>
        <p:blipFill>
          <a:blip r:embed="rId2"/>
          <a:stretch/>
        </p:blipFill>
        <p:spPr>
          <a:xfrm>
            <a:off x="5003640" y="1844640"/>
            <a:ext cx="2640240" cy="201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environmental_plastic_bag_poster_500x306"/>
          <p:cNvPicPr/>
          <p:nvPr/>
        </p:nvPicPr>
        <p:blipFill>
          <a:blip r:embed="rId3"/>
          <a:stretch/>
        </p:blipFill>
        <p:spPr>
          <a:xfrm>
            <a:off x="179280" y="4344840"/>
            <a:ext cx="3097440" cy="1892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diy_11"/>
          <p:cNvPicPr/>
          <p:nvPr/>
        </p:nvPicPr>
        <p:blipFill>
          <a:blip r:embed="rId4"/>
          <a:stretch/>
        </p:blipFill>
        <p:spPr>
          <a:xfrm>
            <a:off x="3429000" y="4221000"/>
            <a:ext cx="2943360" cy="201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com_87"/>
          <p:cNvPicPr/>
          <p:nvPr/>
        </p:nvPicPr>
        <p:blipFill>
          <a:blip r:embed="rId5"/>
          <a:srcRect l="10958" t="0" r="12338" b="0"/>
          <a:stretch/>
        </p:blipFill>
        <p:spPr>
          <a:xfrm>
            <a:off x="6516720" y="4221000"/>
            <a:ext cx="2319480" cy="2016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5168160" y="38307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蘋果日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6800" y="6165720"/>
            <a:ext cx="87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K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666960" y="620712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zh-HK" sz="1000" spc="-1" strike="noStrike">
                <a:solidFill>
                  <a:srgbClr val="000000"/>
                </a:solidFill>
                <a:latin typeface="Arial"/>
              </a:rPr>
              <a:t>家居減廢新世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6680520" y="6207120"/>
            <a:ext cx="94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zh-HK" sz="1000" spc="-1" strike="noStrike">
                <a:solidFill>
                  <a:srgbClr val="000000"/>
                </a:solidFill>
                <a:latin typeface="Arial"/>
              </a:rPr>
              <a:t>綠色新世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5280" y="617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題目二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有人說：「環境保護是一項需要全社會共同參與的事業，政府、企業、媒體、社會大眾缺一不可。公眾參與環保的意識若強度和廣度不足，會直接影響環保後果，最終淪為環保傳播，而疏於參與環保的實際行動。」你認為香港的情況如何？請舉例說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5" name="Picture 2" descr="http://ts4.mm.bing.net/images/thumbnail.aspx?q=4813976170268307&amp;id=a5427a376ac4f0aba2f40b8c70358288"/>
          <p:cNvPicPr/>
          <p:nvPr/>
        </p:nvPicPr>
        <p:blipFill>
          <a:blip r:embed="rId1"/>
          <a:stretch/>
        </p:blipFill>
        <p:spPr>
          <a:xfrm>
            <a:off x="1187280" y="3844800"/>
            <a:ext cx="2448000" cy="2679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ts2.mm.bing.net/images/thumbnail.aspx?q=4793806989428041&amp;id=6f6ceb653e1d4b369b40ff9c07bfbd4a"/>
          <p:cNvPicPr/>
          <p:nvPr/>
        </p:nvPicPr>
        <p:blipFill>
          <a:blip r:embed="rId2"/>
          <a:stretch/>
        </p:blipFill>
        <p:spPr>
          <a:xfrm>
            <a:off x="3851280" y="3595680"/>
            <a:ext cx="2152800" cy="2857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simg.sina.com.hk/cp/12/06/06/06/882773/2/p.jpg"/>
          <p:cNvPicPr/>
          <p:nvPr/>
        </p:nvPicPr>
        <p:blipFill>
          <a:blip r:embed="rId3"/>
          <a:stretch/>
        </p:blipFill>
        <p:spPr>
          <a:xfrm>
            <a:off x="6227640" y="3645000"/>
            <a:ext cx="1871640" cy="28083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7202520" y="6453360"/>
            <a:ext cx="58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太陽報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、中金在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2C0C-4749-430E-AB16-1F6438325D77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Block Arc 17"/>
          <p:cNvSpPr/>
          <p:nvPr/>
        </p:nvSpPr>
        <p:spPr>
          <a:xfrm rot="16200000">
            <a:off x="971280" y="2077560"/>
            <a:ext cx="3583080" cy="3582720"/>
          </a:xfrm>
          <a:custGeom>
            <a:avLst/>
            <a:gdLst>
              <a:gd name="textAreaLeft" fmla="*/ 1791360 w 3583080"/>
              <a:gd name="textAreaRight" fmla="*/ 3583440 w 3583080"/>
              <a:gd name="textAreaTop" fmla="*/ 1791360 h 3582720"/>
              <a:gd name="textAreaBottom" fmla="*/ 3583080 h 3582720"/>
            </a:gdLst>
            <a:ahLst/>
            <a:rect l="textAreaLeft" t="textAreaTop" r="textAreaRight" b="textAreaBottom"/>
            <a:pathLst>
              <a:path w="3582987" h="3582988">
                <a:moveTo>
                  <a:pt x="3582987" y="1791494"/>
                </a:moveTo>
                <a:lnTo>
                  <a:pt x="3582987" y="1791494"/>
                </a:lnTo>
                <a:arcTo wR="1791494" hR="1791494" stAng="0" swAng="5400002"/>
                <a:lnTo>
                  <a:pt x="1791493" y="3416594"/>
                </a:lnTo>
                <a:lnTo>
                  <a:pt x="1791493" y="3416594"/>
                </a:lnTo>
                <a:arcTo wR="1625100" hR="1625100" stAng="5400002" swAng="-5400002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不同持份者的關係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33" name="Block Arc 8"/>
          <p:cNvSpPr/>
          <p:nvPr/>
        </p:nvSpPr>
        <p:spPr>
          <a:xfrm>
            <a:off x="979560" y="2077920"/>
            <a:ext cx="3584520" cy="3583080"/>
          </a:xfrm>
          <a:custGeom>
            <a:avLst/>
            <a:gdLst>
              <a:gd name="textAreaLeft" fmla="*/ 0 w 3584520"/>
              <a:gd name="textAreaRight" fmla="*/ 1792440 w 3584520"/>
              <a:gd name="textAreaTop" fmla="*/ 0 h 3583080"/>
              <a:gd name="textAreaBottom" fmla="*/ 1791360 h 3583080"/>
            </a:gdLst>
            <a:ahLst/>
            <a:rect l="textAreaLeft" t="textAreaTop" r="textAreaRight" b="textAreaBottom"/>
            <a:pathLst>
              <a:path w="3584575" h="3582987">
                <a:moveTo>
                  <a:pt x="0" y="1791491"/>
                </a:moveTo>
                <a:lnTo>
                  <a:pt x="0" y="1791491"/>
                </a:lnTo>
                <a:arcTo wR="1792288" hR="1791494" stAng="-10799996" swAng="5400000"/>
                <a:lnTo>
                  <a:pt x="1792289" y="166394"/>
                </a:lnTo>
                <a:lnTo>
                  <a:pt x="1792289" y="166394"/>
                </a:lnTo>
                <a:arcTo wR="1625894" hR="1625100" stAng="-5399996" swAng="-5400000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Block Arc 9"/>
          <p:cNvSpPr/>
          <p:nvPr/>
        </p:nvSpPr>
        <p:spPr>
          <a:xfrm>
            <a:off x="979560" y="2021040"/>
            <a:ext cx="3584520" cy="3584520"/>
          </a:xfrm>
          <a:custGeom>
            <a:avLst/>
            <a:gdLst>
              <a:gd name="textAreaLeft" fmla="*/ 0 w 3584520"/>
              <a:gd name="textAreaRight" fmla="*/ 1792080 w 3584520"/>
              <a:gd name="textAreaTop" fmla="*/ 1792080 h 3584520"/>
              <a:gd name="textAreaBottom" fmla="*/ 3584880 h 3584520"/>
            </a:gdLst>
            <a:ahLst/>
            <a:rect l="textAreaLeft" t="textAreaTop" r="textAreaRight" b="textAreaBottom"/>
            <a:pathLst>
              <a:path w="3584575" h="3584575">
                <a:moveTo>
                  <a:pt x="1792286" y="3584575"/>
                </a:moveTo>
                <a:lnTo>
                  <a:pt x="1792286" y="3584575"/>
                </a:lnTo>
                <a:arcTo wR="1792288" hR="1792288" stAng="5400002" swAng="5400002"/>
                <a:lnTo>
                  <a:pt x="166468" y="1792286"/>
                </a:lnTo>
                <a:lnTo>
                  <a:pt x="166468" y="1792286"/>
                </a:lnTo>
                <a:arcTo wR="1625820" hR="1625820" stAng="-10799996" swAng="-5400002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Block Arc 10"/>
          <p:cNvSpPr/>
          <p:nvPr/>
        </p:nvSpPr>
        <p:spPr>
          <a:xfrm>
            <a:off x="979560" y="2021040"/>
            <a:ext cx="3584520" cy="3584520"/>
          </a:xfrm>
          <a:custGeom>
            <a:avLst/>
            <a:gdLst>
              <a:gd name="textAreaLeft" fmla="*/ 1792080 w 3584520"/>
              <a:gd name="textAreaRight" fmla="*/ 3584880 w 3584520"/>
              <a:gd name="textAreaTop" fmla="*/ 1792440 h 3584520"/>
              <a:gd name="textAreaBottom" fmla="*/ 3584880 h 3584520"/>
            </a:gdLst>
            <a:ahLst/>
            <a:rect l="textAreaLeft" t="textAreaTop" r="textAreaRight" b="textAreaBottom"/>
            <a:pathLst>
              <a:path w="3584575" h="3584575">
                <a:moveTo>
                  <a:pt x="3584575" y="1792288"/>
                </a:moveTo>
                <a:lnTo>
                  <a:pt x="3584575" y="1792288"/>
                </a:lnTo>
                <a:arcTo wR="1792288" hR="1792288" stAng="0" swAng="5400002"/>
                <a:lnTo>
                  <a:pt x="1792287" y="3418107"/>
                </a:lnTo>
                <a:lnTo>
                  <a:pt x="1792287" y="3418107"/>
                </a:lnTo>
                <a:arcTo wR="1625820" hR="1625820" stAng="5400002" swAng="-5400002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2"/>
          <p:cNvSpPr/>
          <p:nvPr/>
        </p:nvSpPr>
        <p:spPr>
          <a:xfrm>
            <a:off x="1946160" y="2987640"/>
            <a:ext cx="1650960" cy="1650960"/>
          </a:xfrm>
          <a:prstGeom prst="pie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200" rIns="286200" tIns="286200" bIns="2862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Georgia"/>
              </a:rPr>
              <a:t>通力合作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3"/>
          <p:cNvSpPr/>
          <p:nvPr/>
        </p:nvSpPr>
        <p:spPr>
          <a:xfrm>
            <a:off x="2195640" y="1557360"/>
            <a:ext cx="1155600" cy="1155600"/>
          </a:xfrm>
          <a:prstGeom prst="pie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個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4"/>
          <p:cNvSpPr/>
          <p:nvPr/>
        </p:nvSpPr>
        <p:spPr>
          <a:xfrm>
            <a:off x="3924360" y="3141720"/>
            <a:ext cx="1155600" cy="1155600"/>
          </a:xfrm>
          <a:prstGeom prst="pie">
            <a:avLst/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企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5"/>
          <p:cNvSpPr/>
          <p:nvPr/>
        </p:nvSpPr>
        <p:spPr>
          <a:xfrm>
            <a:off x="2193840" y="4986360"/>
            <a:ext cx="1155960" cy="1155600"/>
          </a:xfrm>
          <a:prstGeom prst="pie">
            <a:avLst/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學校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6"/>
          <p:cNvSpPr/>
          <p:nvPr/>
        </p:nvSpPr>
        <p:spPr>
          <a:xfrm>
            <a:off x="468360" y="3141720"/>
            <a:ext cx="1155600" cy="1155600"/>
          </a:xfrm>
          <a:prstGeom prst="pie">
            <a:avLst/>
          </a:prstGeom>
          <a:solidFill>
            <a:srgbClr val="00206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社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loud Callout 6"/>
          <p:cNvSpPr/>
          <p:nvPr/>
        </p:nvSpPr>
        <p:spPr>
          <a:xfrm>
            <a:off x="5435640" y="2565360"/>
            <a:ext cx="3024000" cy="2448000"/>
          </a:xfrm>
          <a:prstGeom prst="cloudCallout">
            <a:avLst>
              <a:gd name="adj1" fmla="val 52365"/>
              <a:gd name="adj2" fmla="val 64467"/>
            </a:avLst>
          </a:prstGeom>
          <a:solidFill>
            <a:srgbClr val="7030a0">
              <a:alpha val="76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Georgia"/>
              </a:rPr>
              <a:t>還有更多的持份者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68D-4273-4587-BFBF-8086199467AA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646b86"/>
                </a:solidFill>
                <a:uFillTx/>
                <a:latin typeface="Trebuchet MS"/>
              </a:rPr>
              <a:t>國際例子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pic>
        <p:nvPicPr>
          <p:cNvPr id="345" name="Picture 2" descr="http://ts1.mm.bing.net/images/thumbnail.aspx?q=4928956743352952&amp;id=4e86bfeb7d0ac0b53d97c1d635d9a8da"/>
          <p:cNvPicPr/>
          <p:nvPr/>
        </p:nvPicPr>
        <p:blipFill>
          <a:blip r:embed="rId1"/>
          <a:stretch/>
        </p:blipFill>
        <p:spPr>
          <a:xfrm>
            <a:off x="3924360" y="4437000"/>
            <a:ext cx="4765680" cy="2160720"/>
          </a:xfrm>
          <a:prstGeom prst="rect">
            <a:avLst/>
          </a:prstGeom>
          <a:ln w="0">
            <a:noFill/>
          </a:ln>
        </p:spPr>
      </p:pic>
      <p:sp>
        <p:nvSpPr>
          <p:cNvPr id="346" name="Explosion 1 7"/>
          <p:cNvSpPr/>
          <p:nvPr/>
        </p:nvSpPr>
        <p:spPr>
          <a:xfrm>
            <a:off x="1116000" y="1341360"/>
            <a:ext cx="6551640" cy="3500640"/>
          </a:xfrm>
          <a:prstGeom prst="irregularSeal1">
            <a:avLst/>
          </a:prstGeom>
          <a:solidFill>
            <a:srgbClr val="edd3b6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剛才討論過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KEA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，你知道這品牌的發源地在哪裡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1D37-AD8C-4527-8A1E-50215EA4D16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646b86"/>
                </a:solidFill>
                <a:uFillTx/>
                <a:latin typeface="Trebuchet MS"/>
              </a:rPr>
              <a:t>瑞典</a:t>
            </a:r>
            <a:endParaRPr b="0" lang="en-US" sz="32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267920"/>
            <a:ext cx="525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位處北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全歐垃圾回收率最高之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首都為斯德哥爾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贏得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10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年歐盟「綠色首都」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2" descr="http://ts2.mm.bing.net/images/thumbnail.aspx?q=4656664409342537&amp;id=d7c95f1000743877b03f19c086b15046"/>
          <p:cNvPicPr/>
          <p:nvPr/>
        </p:nvPicPr>
        <p:blipFill>
          <a:blip r:embed="rId1"/>
          <a:stretch/>
        </p:blipFill>
        <p:spPr>
          <a:xfrm>
            <a:off x="755640" y="34290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www.haimenonline.com/images/2012/02/sweden-map-1.jpg"/>
          <p:cNvPicPr/>
          <p:nvPr/>
        </p:nvPicPr>
        <p:blipFill>
          <a:blip r:embed="rId2"/>
          <a:stretch/>
        </p:blipFill>
        <p:spPr>
          <a:xfrm>
            <a:off x="5724360" y="-6480"/>
            <a:ext cx="3168720" cy="686448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641-2256-4F05-ACA4-B1627452EF6E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646b86"/>
                </a:solidFill>
                <a:uFillTx/>
                <a:latin typeface="Trebuchet MS"/>
              </a:rPr>
              <a:t>瑞典驚嘆號 之 綠色環保城</a:t>
            </a:r>
            <a:br>
              <a:rPr sz="3200"/>
            </a:br>
            <a:endParaRPr b="0" lang="en-US" sz="32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4000" y="126828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youtube.com/watch?v=YvWEpotwGEw&amp;feature=relmf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0:43-3:25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就片段所言，瑞典人是如何處理塑膠廢物的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除垃圾處理外，片段還指出瑞士人如何在以下方面保護環境？當中需要甚麼社會配套？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Cloud Callout 3"/>
          <p:cNvSpPr/>
          <p:nvPr/>
        </p:nvSpPr>
        <p:spPr>
          <a:xfrm>
            <a:off x="826920" y="3716280"/>
            <a:ext cx="2195640" cy="1656000"/>
          </a:xfrm>
          <a:prstGeom prst="cloudCallout">
            <a:avLst>
              <a:gd name="adj1" fmla="val -26435"/>
              <a:gd name="adj2" fmla="val 70884"/>
            </a:avLst>
          </a:prstGeom>
          <a:solidFill>
            <a:srgbClr val="c8e634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交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loud Callout 10"/>
          <p:cNvSpPr/>
          <p:nvPr/>
        </p:nvSpPr>
        <p:spPr>
          <a:xfrm>
            <a:off x="2987640" y="4149720"/>
            <a:ext cx="2952720" cy="1944720"/>
          </a:xfrm>
          <a:prstGeom prst="cloudCallout">
            <a:avLst>
              <a:gd name="adj1" fmla="val -26435"/>
              <a:gd name="adj2" fmla="val 63569"/>
            </a:avLst>
          </a:prstGeom>
          <a:solidFill>
            <a:srgbClr val="1dfda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市民習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loud Callout 11"/>
          <p:cNvSpPr/>
          <p:nvPr/>
        </p:nvSpPr>
        <p:spPr>
          <a:xfrm>
            <a:off x="6084720" y="3357720"/>
            <a:ext cx="2448000" cy="2158920"/>
          </a:xfrm>
          <a:prstGeom prst="cloudCallout">
            <a:avLst>
              <a:gd name="adj1" fmla="val 26300"/>
              <a:gd name="adj2" fmla="val 62504"/>
            </a:avLst>
          </a:prstGeom>
          <a:solidFill>
            <a:srgbClr val="ffff0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建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1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A2A0-AE0D-44FC-9C46-5A7CC3331E60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3120" y="345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646b86"/>
                </a:solidFill>
                <a:uFillTx/>
                <a:latin typeface="Trebuchet MS"/>
              </a:rPr>
              <a:t>香港可有學習的地方？</a:t>
            </a:r>
            <a:endParaRPr b="0" lang="en-US" sz="3200" spc="-1" strike="noStrike">
              <a:solidFill>
                <a:srgbClr val="646b86"/>
              </a:solidFill>
              <a:latin typeface="Trebuchet MS"/>
            </a:endParaRPr>
          </a:p>
        </p:txBody>
      </p:sp>
      <p:pic>
        <p:nvPicPr>
          <p:cNvPr id="363" name="Picture 6" descr="http://idxayw.blu.livefilestore.com/y1p_bOQACBiPvAXfa3CBnzFQC_Td7pm72PI5ibTGKisaQpW0iguudLGFVgAC1Eb1SJBVXp4Wy7bTNw-kEF1zlMq2g/DSC02180.JPG"/>
          <p:cNvPicPr/>
          <p:nvPr/>
        </p:nvPicPr>
        <p:blipFill>
          <a:blip r:embed="rId1"/>
          <a:stretch/>
        </p:blipFill>
        <p:spPr>
          <a:xfrm>
            <a:off x="316080" y="1197000"/>
            <a:ext cx="2815920" cy="41752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17040" y="6524640"/>
            <a:ext cx="12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圖片來源：小豆乾的雜貨店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u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http://ts3.mm.bing.net/images/thumbnail.aspx?q=4728424728495642&amp;id=9b478034eb41a5915200f4b0cdad9149"/>
          <p:cNvPicPr/>
          <p:nvPr/>
        </p:nvPicPr>
        <p:blipFill>
          <a:blip r:embed="rId2"/>
          <a:stretch/>
        </p:blipFill>
        <p:spPr>
          <a:xfrm>
            <a:off x="3132000" y="1231920"/>
            <a:ext cx="2833920" cy="2125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ts4.mm.bing.net/images/thumbnail.aspx?q=4664713167242475&amp;id=7d5105f84fe61ce490122fab98e907b2"/>
          <p:cNvPicPr/>
          <p:nvPr/>
        </p:nvPicPr>
        <p:blipFill>
          <a:blip r:embed="rId3"/>
          <a:stretch/>
        </p:blipFill>
        <p:spPr>
          <a:xfrm>
            <a:off x="3132000" y="3429000"/>
            <a:ext cx="2148120" cy="3024360"/>
          </a:xfrm>
          <a:prstGeom prst="rect">
            <a:avLst/>
          </a:prstGeom>
          <a:ln w="0">
            <a:noFill/>
          </a:ln>
        </p:spPr>
      </p:pic>
      <p:sp>
        <p:nvSpPr>
          <p:cNvPr id="367" name="Cloud Callout 9"/>
          <p:cNvSpPr/>
          <p:nvPr/>
        </p:nvSpPr>
        <p:spPr>
          <a:xfrm>
            <a:off x="5796000" y="2637000"/>
            <a:ext cx="2665440" cy="1728720"/>
          </a:xfrm>
          <a:prstGeom prst="cloudCallout">
            <a:avLst>
              <a:gd name="adj1" fmla="val -47587"/>
              <a:gd name="adj2" fmla="val 45972"/>
            </a:avLst>
          </a:prstGeom>
          <a:solidFill>
            <a:srgbClr val="adcff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Georgia"/>
              </a:rPr>
              <a:t>有何困難／機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loud Callout 11"/>
          <p:cNvSpPr/>
          <p:nvPr/>
        </p:nvSpPr>
        <p:spPr>
          <a:xfrm>
            <a:off x="5940360" y="404640"/>
            <a:ext cx="2808360" cy="2016360"/>
          </a:xfrm>
          <a:prstGeom prst="cloudCallout">
            <a:avLst>
              <a:gd name="adj1" fmla="val 42648"/>
              <a:gd name="adj2" fmla="val 55546"/>
            </a:avLst>
          </a:prstGeom>
          <a:solidFill>
            <a:srgbClr val="e4a1e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Georgia"/>
              </a:rPr>
              <a:t>香港有何條件學習瑞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E93F-26FF-46CD-9B9F-560E9F9BEC5D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loud Callout 10"/>
          <p:cNvSpPr/>
          <p:nvPr/>
        </p:nvSpPr>
        <p:spPr>
          <a:xfrm>
            <a:off x="5435640" y="4437000"/>
            <a:ext cx="2808360" cy="2016360"/>
          </a:xfrm>
          <a:prstGeom prst="cloudCallout">
            <a:avLst>
              <a:gd name="adj1" fmla="val 42648"/>
              <a:gd name="adj2" fmla="val 39930"/>
            </a:avLst>
          </a:prstGeom>
          <a:solidFill>
            <a:srgbClr val="e4a1e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Georgia"/>
              </a:rPr>
              <a:t>預計要增加甚麼配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反思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8000" y="1628640"/>
            <a:ext cx="8351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你認為香港的塑膠問題是否不能解決？為甚麼？問題的減低需要甚麼條件？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你又會否願意改變生活習慣來減輕塑膠問題？你會如何改善？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舉出三個有意義的具體行動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BF0-77CB-42A1-B97C-CE24CEB4DE2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本課總結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D4E-C4B0-44CC-800A-E7D6F25580DB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"/>
          <p:cNvSpPr/>
          <p:nvPr/>
        </p:nvSpPr>
        <p:spPr>
          <a:xfrm>
            <a:off x="3586320" y="3021120"/>
            <a:ext cx="2006280" cy="2092320"/>
          </a:xfrm>
          <a:prstGeom prst="pie">
            <a:avLst/>
          </a:prstGeom>
          <a:solidFill>
            <a:srgbClr val="262626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19320" rIns="319320" tIns="331920" bIns="331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2060"/>
                </a:solidFill>
                <a:latin typeface="Georgia"/>
              </a:rPr>
              <a:t>如何在塑膠廢物問題上盡公民責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9"/>
          <p:cNvSpPr/>
          <p:nvPr/>
        </p:nvSpPr>
        <p:spPr>
          <a:xfrm rot="16240800">
            <a:off x="4460760" y="2587680"/>
            <a:ext cx="287280" cy="525240"/>
          </a:xfrm>
          <a:custGeom>
            <a:avLst/>
            <a:gdLst/>
            <a:ahLst/>
            <a:rect l="l" t="t" r="r" b="b"/>
            <a:pathLst>
              <a:path w="287840" h="526248">
                <a:moveTo>
                  <a:pt x="0" y="105250"/>
                </a:moveTo>
                <a:lnTo>
                  <a:pt x="143920" y="105250"/>
                </a:lnTo>
                <a:lnTo>
                  <a:pt x="143920" y="0"/>
                </a:lnTo>
                <a:lnTo>
                  <a:pt x="287840" y="263124"/>
                </a:lnTo>
                <a:lnTo>
                  <a:pt x="143920" y="526248"/>
                </a:lnTo>
                <a:lnTo>
                  <a:pt x="143920" y="420998"/>
                </a:lnTo>
                <a:lnTo>
                  <a:pt x="0" y="420998"/>
                </a:lnTo>
                <a:lnTo>
                  <a:pt x="0" y="10525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8604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0"/>
          <p:cNvSpPr/>
          <p:nvPr/>
        </p:nvSpPr>
        <p:spPr>
          <a:xfrm>
            <a:off x="3841920" y="1125360"/>
            <a:ext cx="1547640" cy="1546560"/>
          </a:xfrm>
          <a:prstGeom prst="pie">
            <a:avLst/>
          </a:prstGeom>
          <a:solidFill>
            <a:srgbClr val="435e40">
              <a:alpha val="4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響應、推動及參與環保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1"/>
          <p:cNvSpPr/>
          <p:nvPr/>
        </p:nvSpPr>
        <p:spPr>
          <a:xfrm rot="20551200">
            <a:off x="5582880" y="3436560"/>
            <a:ext cx="347760" cy="527040"/>
          </a:xfrm>
          <a:custGeom>
            <a:avLst/>
            <a:gdLst/>
            <a:ahLst/>
            <a:rect l="l" t="t" r="r" b="b"/>
            <a:pathLst>
              <a:path w="347242" h="526248">
                <a:moveTo>
                  <a:pt x="0" y="105250"/>
                </a:moveTo>
                <a:lnTo>
                  <a:pt x="173621" y="105250"/>
                </a:lnTo>
                <a:lnTo>
                  <a:pt x="173621" y="0"/>
                </a:lnTo>
                <a:lnTo>
                  <a:pt x="347242" y="263124"/>
                </a:lnTo>
                <a:lnTo>
                  <a:pt x="173621" y="526248"/>
                </a:lnTo>
                <a:lnTo>
                  <a:pt x="173621" y="420998"/>
                </a:lnTo>
                <a:lnTo>
                  <a:pt x="0" y="420998"/>
                </a:lnTo>
                <a:lnTo>
                  <a:pt x="0" y="10525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10404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2"/>
          <p:cNvSpPr/>
          <p:nvPr/>
        </p:nvSpPr>
        <p:spPr>
          <a:xfrm>
            <a:off x="5867280" y="2565360"/>
            <a:ext cx="1548000" cy="1548000"/>
          </a:xfrm>
          <a:prstGeom prst="pie">
            <a:avLst/>
          </a:prstGeom>
          <a:solidFill>
            <a:srgbClr val="61898a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TW" sz="2000" spc="-1" strike="noStrike">
                <a:solidFill>
                  <a:srgbClr val="002060"/>
                </a:solidFill>
                <a:latin typeface="Georgia"/>
              </a:rPr>
              <a:t>公民</a:t>
            </a: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參與</a:t>
            </a:r>
            <a:r>
              <a:rPr b="0" lang="zh-TW" sz="2000" spc="-1" strike="noStrike">
                <a:solidFill>
                  <a:srgbClr val="002060"/>
                </a:solidFill>
                <a:latin typeface="Georgia"/>
              </a:rPr>
              <a:t>的行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3"/>
          <p:cNvSpPr/>
          <p:nvPr/>
        </p:nvSpPr>
        <p:spPr>
          <a:xfrm rot="3085200">
            <a:off x="5196960" y="4774680"/>
            <a:ext cx="331920" cy="525600"/>
          </a:xfrm>
          <a:custGeom>
            <a:avLst/>
            <a:gdLst/>
            <a:ahLst/>
            <a:rect l="l" t="t" r="r" b="b"/>
            <a:pathLst>
              <a:path w="330642" h="526248">
                <a:moveTo>
                  <a:pt x="0" y="105250"/>
                </a:moveTo>
                <a:lnTo>
                  <a:pt x="165321" y="105250"/>
                </a:lnTo>
                <a:lnTo>
                  <a:pt x="165321" y="0"/>
                </a:lnTo>
                <a:lnTo>
                  <a:pt x="330642" y="263124"/>
                </a:lnTo>
                <a:lnTo>
                  <a:pt x="165321" y="526248"/>
                </a:lnTo>
                <a:lnTo>
                  <a:pt x="165321" y="420998"/>
                </a:lnTo>
                <a:lnTo>
                  <a:pt x="0" y="420998"/>
                </a:lnTo>
                <a:lnTo>
                  <a:pt x="0" y="10525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900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4"/>
          <p:cNvSpPr/>
          <p:nvPr/>
        </p:nvSpPr>
        <p:spPr>
          <a:xfrm>
            <a:off x="5213520" y="4976640"/>
            <a:ext cx="1547640" cy="1548000"/>
          </a:xfrm>
          <a:prstGeom prst="pie">
            <a:avLst/>
          </a:prstGeom>
          <a:solidFill>
            <a:srgbClr val="a96d2b">
              <a:alpha val="4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改變生活習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5"/>
          <p:cNvSpPr/>
          <p:nvPr/>
        </p:nvSpPr>
        <p:spPr>
          <a:xfrm rot="18556800">
            <a:off x="3633120" y="4772520"/>
            <a:ext cx="328680" cy="527040"/>
          </a:xfrm>
          <a:custGeom>
            <a:avLst/>
            <a:gdLst/>
            <a:ahLst/>
            <a:rect l="l" t="t" r="r" b="b"/>
            <a:pathLst>
              <a:path w="328806" h="526248">
                <a:moveTo>
                  <a:pt x="328806" y="420998"/>
                </a:moveTo>
                <a:lnTo>
                  <a:pt x="164403" y="420998"/>
                </a:lnTo>
                <a:lnTo>
                  <a:pt x="164403" y="526248"/>
                </a:lnTo>
                <a:lnTo>
                  <a:pt x="0" y="263124"/>
                </a:lnTo>
                <a:lnTo>
                  <a:pt x="164403" y="0"/>
                </a:lnTo>
                <a:lnTo>
                  <a:pt x="164403" y="105250"/>
                </a:lnTo>
                <a:lnTo>
                  <a:pt x="328806" y="105250"/>
                </a:lnTo>
                <a:lnTo>
                  <a:pt x="328806" y="420998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6"/>
          <p:cNvSpPr/>
          <p:nvPr/>
        </p:nvSpPr>
        <p:spPr>
          <a:xfrm>
            <a:off x="2382840" y="4976640"/>
            <a:ext cx="1547640" cy="1548000"/>
          </a:xfrm>
          <a:prstGeom prst="pie">
            <a:avLst/>
          </a:prstGeom>
          <a:solidFill>
            <a:srgbClr val="a9432b">
              <a:alpha val="5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實行源頭減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7"/>
          <p:cNvSpPr/>
          <p:nvPr/>
        </p:nvSpPr>
        <p:spPr>
          <a:xfrm rot="1031400">
            <a:off x="3246120" y="3438360"/>
            <a:ext cx="314280" cy="525600"/>
          </a:xfrm>
          <a:custGeom>
            <a:avLst/>
            <a:gdLst/>
            <a:ahLst/>
            <a:rect l="l" t="t" r="r" b="b"/>
            <a:pathLst>
              <a:path w="315030" h="526248">
                <a:moveTo>
                  <a:pt x="315030" y="420998"/>
                </a:moveTo>
                <a:lnTo>
                  <a:pt x="157515" y="420998"/>
                </a:lnTo>
                <a:lnTo>
                  <a:pt x="157515" y="526248"/>
                </a:lnTo>
                <a:lnTo>
                  <a:pt x="0" y="263124"/>
                </a:lnTo>
                <a:lnTo>
                  <a:pt x="157515" y="0"/>
                </a:lnTo>
                <a:lnTo>
                  <a:pt x="157515" y="105250"/>
                </a:lnTo>
                <a:lnTo>
                  <a:pt x="315030" y="105250"/>
                </a:lnTo>
                <a:lnTo>
                  <a:pt x="315030" y="420998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429496704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8"/>
          <p:cNvSpPr/>
          <p:nvPr/>
        </p:nvSpPr>
        <p:spPr>
          <a:xfrm>
            <a:off x="1728720" y="2673360"/>
            <a:ext cx="1548000" cy="1547640"/>
          </a:xfrm>
          <a:prstGeom prst="pie">
            <a:avLst/>
          </a:prstGeom>
          <a:solidFill>
            <a:srgbClr val="4b5064">
              <a:alpha val="51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個人環保知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你知道</a:t>
            </a: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「環保」產品真的很環保嗎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塑膠分成哪七類嗎？知道類別有何作用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香港市民該如何在塑膠廢物問題上盡公民責任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除了處理塑膠廢物問題外，我們還可以在哪些方面實踐環境保護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E74B-7548-460A-98D4-87D248CC2CF8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單元總結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360" y="1628640"/>
            <a:ext cx="822960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學過這單元後，你認識到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塑膠廢物的來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塑膠廢物的影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處理塑膠廢物的困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改善塑膠廢物問題的方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E1E-E83C-48C5-A08B-DD393ADB93E5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Cloud Callout 6"/>
          <p:cNvGrpSpPr/>
          <p:nvPr/>
        </p:nvGrpSpPr>
        <p:grpSpPr>
          <a:xfrm>
            <a:off x="4572000" y="1238400"/>
            <a:ext cx="4389480" cy="3363840"/>
            <a:chOff x="4572000" y="1238400"/>
            <a:chExt cx="4389480" cy="3363840"/>
          </a:xfrm>
        </p:grpSpPr>
        <p:pic>
          <p:nvPicPr>
            <p:cNvPr id="394" name="Cloud Callout 6" descr=""/>
            <p:cNvPicPr/>
            <p:nvPr/>
          </p:nvPicPr>
          <p:blipFill>
            <a:blip r:embed="rId1"/>
            <a:stretch/>
          </p:blipFill>
          <p:spPr>
            <a:xfrm>
              <a:off x="4572000" y="1238400"/>
              <a:ext cx="438948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229360" y="1692360"/>
              <a:ext cx="27748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Georgia"/>
                </a:rPr>
                <a:t>你是否已在塑膠廢物問題上盡上公民責任？你還需要在哪些方面加以改善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Horizontal Scroll 4"/>
          <p:cNvSpPr/>
          <p:nvPr/>
        </p:nvSpPr>
        <p:spPr>
          <a:xfrm>
            <a:off x="755640" y="4076640"/>
            <a:ext cx="7777080" cy="237672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57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填寫承諾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表明自己願意盡上公民責任，保護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Connector 5"/>
          <p:cNvSpPr/>
          <p:nvPr/>
        </p:nvSpPr>
        <p:spPr>
          <a:xfrm>
            <a:off x="8101080" y="5877000"/>
            <a:ext cx="1042920" cy="981000"/>
          </a:xfrm>
          <a:prstGeom prst="flowChartConnector">
            <a:avLst/>
          </a:prstGeom>
          <a:solidFill>
            <a:srgbClr val="8fb08c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eorgia"/>
              </a:rPr>
              <a:t>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46b86"/>
                </a:solidFill>
                <a:latin typeface="Trebuchet MS"/>
              </a:rPr>
              <a:t>一、</a:t>
            </a:r>
            <a:r>
              <a:rPr b="1" lang="zh-TW" sz="3600" spc="-1" strike="noStrike">
                <a:solidFill>
                  <a:srgbClr val="646b86"/>
                </a:solidFill>
                <a:latin typeface="Trebuchet MS"/>
              </a:rPr>
              <a:t>「環保」產品真的很環保嗎？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naqua 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新一代輕量樽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11 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廣告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0:00-0:3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youtube.com/watch?v=EEQkP0KOMFQ&amp;feature=rela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743-9943-4219-A0FE-DF9451A2F600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你知道這款水樽屬於哪一種塑膠嗎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你覺得這款產品方便回收嗎？為甚麼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這款水樽有甚麼優點／缺點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怎樣才是最環保的生活習慣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4" descr="http://gc.freshmedia.com.hk/images/article/Bonaqua7.jpg"/>
          <p:cNvPicPr/>
          <p:nvPr/>
        </p:nvPicPr>
        <p:blipFill>
          <a:blip r:embed="rId1"/>
          <a:stretch/>
        </p:blipFill>
        <p:spPr>
          <a:xfrm>
            <a:off x="468360" y="2781360"/>
            <a:ext cx="5543640" cy="3672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7375320" y="646416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圖片來源：譽源雜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gc.freshmedia.com.hk/images/article/Bonaqua2.jpg"/>
          <p:cNvPicPr/>
          <p:nvPr/>
        </p:nvPicPr>
        <p:blipFill>
          <a:blip r:embed="rId2"/>
          <a:stretch/>
        </p:blipFill>
        <p:spPr>
          <a:xfrm>
            <a:off x="6084720" y="2781360"/>
            <a:ext cx="2484720" cy="367200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DBF6-570F-4CC3-BEC0-4E68C799CB30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七類塑膠知多少？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40" name="Explosion 2 3"/>
          <p:cNvSpPr/>
          <p:nvPr/>
        </p:nvSpPr>
        <p:spPr>
          <a:xfrm>
            <a:off x="324000" y="1295280"/>
            <a:ext cx="5327640" cy="3429000"/>
          </a:xfrm>
          <a:prstGeom prst="irregularSeal2">
            <a:avLst/>
          </a:prstGeom>
          <a:solidFill>
            <a:srgbClr val="e3bc92">
              <a:alpha val="56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Georgia"/>
              </a:rPr>
              <a:t>你知道塑膠可分為多少類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xplosion 1 4"/>
          <p:cNvSpPr/>
          <p:nvPr/>
        </p:nvSpPr>
        <p:spPr>
          <a:xfrm>
            <a:off x="3924360" y="2133720"/>
            <a:ext cx="5003640" cy="3671640"/>
          </a:xfrm>
          <a:prstGeom prst="irregularSeal1">
            <a:avLst/>
          </a:prstGeom>
          <a:solidFill>
            <a:srgbClr val="bcd0ba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Georgia"/>
              </a:rPr>
              <a:t>不同類別的塑膠有何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B2F0-0C48-4EC8-9EFF-167F619809FB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Explosion 2 6"/>
          <p:cNvGrpSpPr/>
          <p:nvPr/>
        </p:nvGrpSpPr>
        <p:grpSpPr>
          <a:xfrm>
            <a:off x="1122480" y="3456000"/>
            <a:ext cx="4741920" cy="3090960"/>
            <a:chOff x="1122480" y="3456000"/>
            <a:chExt cx="4741920" cy="3090960"/>
          </a:xfrm>
        </p:grpSpPr>
        <p:pic>
          <p:nvPicPr>
            <p:cNvPr id="244" name="Explosion 2 6" descr=""/>
            <p:cNvPicPr/>
            <p:nvPr/>
          </p:nvPicPr>
          <p:blipFill>
            <a:blip r:embed="rId1"/>
            <a:stretch/>
          </p:blipFill>
          <p:spPr>
            <a:xfrm>
              <a:off x="1122480" y="3456000"/>
              <a:ext cx="47419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333520" y="4373640"/>
              <a:ext cx="197820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Georgia"/>
                </a:rPr>
                <a:t>知道類別有何作用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852720" y="3789360"/>
            <a:ext cx="2664000" cy="2665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6588000" y="11415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4068720" y="814320"/>
            <a:ext cx="2857680" cy="268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Object 4"/>
          <p:cNvGraphicFramePr/>
          <p:nvPr/>
        </p:nvGraphicFramePr>
        <p:xfrm>
          <a:off x="6516720" y="3860640"/>
          <a:ext cx="2376360" cy="26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3860640"/>
                    <a:ext cx="2376360" cy="26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Slide Number Placeholder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A4D5-1C1A-4DB6-A2FF-E526D4DDDBD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6"/>
          <a:stretch/>
        </p:blipFill>
        <p:spPr>
          <a:xfrm>
            <a:off x="250920" y="1052640"/>
            <a:ext cx="3924360" cy="2205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7"/>
          <a:stretch/>
        </p:blipFill>
        <p:spPr>
          <a:xfrm>
            <a:off x="250920" y="4005360"/>
            <a:ext cx="39877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255" name="Cloud Callout 8"/>
          <p:cNvGrpSpPr/>
          <p:nvPr/>
        </p:nvGrpSpPr>
        <p:grpSpPr>
          <a:xfrm>
            <a:off x="3560760" y="2097000"/>
            <a:ext cx="5145120" cy="2828880"/>
            <a:chOff x="3560760" y="2097000"/>
            <a:chExt cx="5145120" cy="2828880"/>
          </a:xfrm>
        </p:grpSpPr>
        <p:pic>
          <p:nvPicPr>
            <p:cNvPr id="256" name="Cloud Callout 8" descr=""/>
            <p:cNvPicPr/>
            <p:nvPr/>
          </p:nvPicPr>
          <p:blipFill>
            <a:blip r:embed="rId8"/>
            <a:stretch/>
          </p:blipFill>
          <p:spPr>
            <a:xfrm>
              <a:off x="3560760" y="2097000"/>
              <a:ext cx="514512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25760" y="2487600"/>
              <a:ext cx="326880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試猜猜</a:t>
              </a: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PET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與</a:t>
              </a: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HDPE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在</a:t>
              </a:r>
              <a:r>
                <a:rPr b="1" lang="zh-TW" sz="2400" spc="-1" strike="noStrike">
                  <a:solidFill>
                    <a:srgbClr val="ffffff"/>
                  </a:solidFill>
                  <a:latin typeface="Georgia"/>
                </a:rPr>
                <a:t>顏色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、</a:t>
              </a:r>
              <a:r>
                <a:rPr b="1" lang="zh-TW" sz="2400" spc="-1" strike="noStrike">
                  <a:solidFill>
                    <a:srgbClr val="ffffff"/>
                  </a:solidFill>
                  <a:latin typeface="Georgia"/>
                </a:rPr>
                <a:t>硬度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和</a:t>
              </a:r>
              <a:r>
                <a:rPr b="1" lang="zh-TW" sz="2400" spc="-1" strike="noStrike">
                  <a:solidFill>
                    <a:srgbClr val="ffffff"/>
                  </a:solidFill>
                  <a:latin typeface="Georgia"/>
                </a:rPr>
                <a:t>耐熱度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方面有何不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516720" y="8589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6588000" y="4940280"/>
            <a:ext cx="24847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3924360" y="1052640"/>
          <a:ext cx="2952720" cy="24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052640"/>
                    <a:ext cx="295272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2609640" cy="223668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4C23-D3B9-41F6-A834-1B35C65229D0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9" descr=""/>
          <p:cNvPicPr/>
          <p:nvPr/>
        </p:nvPicPr>
        <p:blipFill>
          <a:blip r:embed="rId6"/>
          <a:srcRect l="0" t="0" r="406" b="0"/>
          <a:stretch/>
        </p:blipFill>
        <p:spPr>
          <a:xfrm>
            <a:off x="250920" y="126828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"/>
          <p:cNvPicPr/>
          <p:nvPr/>
        </p:nvPicPr>
        <p:blipFill>
          <a:blip r:embed="rId7"/>
          <a:stretch/>
        </p:blipFill>
        <p:spPr>
          <a:xfrm>
            <a:off x="250920" y="4292640"/>
            <a:ext cx="36036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67" name="Cloud Callout 11"/>
          <p:cNvGrpSpPr/>
          <p:nvPr/>
        </p:nvGrpSpPr>
        <p:grpSpPr>
          <a:xfrm>
            <a:off x="682560" y="79200"/>
            <a:ext cx="4243320" cy="1584360"/>
            <a:chOff x="682560" y="79200"/>
            <a:chExt cx="4243320" cy="1584360"/>
          </a:xfrm>
        </p:grpSpPr>
        <p:pic>
          <p:nvPicPr>
            <p:cNvPr id="268" name="Cloud Callout 11" descr=""/>
            <p:cNvPicPr/>
            <p:nvPr/>
          </p:nvPicPr>
          <p:blipFill>
            <a:blip r:embed="rId8"/>
            <a:stretch/>
          </p:blipFill>
          <p:spPr>
            <a:xfrm>
              <a:off x="682560" y="79200"/>
              <a:ext cx="42433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320840" y="318960"/>
              <a:ext cx="268128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VC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是否適宜回收再造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Cloud Callout 12"/>
          <p:cNvGrpSpPr/>
          <p:nvPr/>
        </p:nvGrpSpPr>
        <p:grpSpPr>
          <a:xfrm>
            <a:off x="3200400" y="3176640"/>
            <a:ext cx="4681440" cy="2370240"/>
            <a:chOff x="3200400" y="3176640"/>
            <a:chExt cx="4681440" cy="2370240"/>
          </a:xfrm>
        </p:grpSpPr>
        <p:pic>
          <p:nvPicPr>
            <p:cNvPr id="271" name="Cloud Callout 12" descr=""/>
            <p:cNvPicPr/>
            <p:nvPr/>
          </p:nvPicPr>
          <p:blipFill>
            <a:blip r:embed="rId9"/>
            <a:stretch/>
          </p:blipFill>
          <p:spPr>
            <a:xfrm>
              <a:off x="3200400" y="3176640"/>
              <a:ext cx="468144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900600" y="3506760"/>
              <a:ext cx="29638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試猜猜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LDPE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與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DPE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在</a:t>
              </a:r>
              <a:r>
                <a:rPr b="1" lang="zh-TW" sz="2400" spc="-1" strike="noStrike">
                  <a:solidFill>
                    <a:srgbClr val="000000"/>
                  </a:solidFill>
                  <a:latin typeface="Georgia"/>
                </a:rPr>
                <a:t>硬度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和</a:t>
              </a:r>
              <a:r>
                <a:rPr b="1" lang="zh-TW" sz="2400" spc="-1" strike="noStrike">
                  <a:solidFill>
                    <a:srgbClr val="000000"/>
                  </a:solidFill>
                  <a:latin typeface="Georgia"/>
                </a:rPr>
                <a:t>耐熱度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方面有何不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804000" y="1355760"/>
            <a:ext cx="2670120" cy="20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4"/>
          <p:cNvGraphicFramePr/>
          <p:nvPr/>
        </p:nvGraphicFramePr>
        <p:xfrm>
          <a:off x="3924360" y="4005360"/>
          <a:ext cx="295272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005360"/>
                    <a:ext cx="2952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4"/>
          <a:srcRect l="0" t="12114" r="0" b="0"/>
          <a:stretch/>
        </p:blipFill>
        <p:spPr>
          <a:xfrm>
            <a:off x="3924360" y="1268280"/>
            <a:ext cx="3168720" cy="2089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6 PS - 2.JPG"/>
          <p:cNvPicPr/>
          <p:nvPr/>
        </p:nvPicPr>
        <p:blipFill>
          <a:blip r:embed="rId5"/>
          <a:srcRect l="18431" t="8122" r="22354" b="0"/>
          <a:stretch/>
        </p:blipFill>
        <p:spPr>
          <a:xfrm>
            <a:off x="8459640" y="4005360"/>
            <a:ext cx="5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6 PS - 3.JPG"/>
          <p:cNvPicPr/>
          <p:nvPr/>
        </p:nvPicPr>
        <p:blipFill>
          <a:blip r:embed="rId6"/>
          <a:srcRect l="0" t="10306" r="0" b="17630"/>
          <a:stretch/>
        </p:blipFill>
        <p:spPr>
          <a:xfrm>
            <a:off x="6804000" y="5191200"/>
            <a:ext cx="2232000" cy="1190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6 PS - 4.jpg"/>
          <p:cNvPicPr/>
          <p:nvPr/>
        </p:nvPicPr>
        <p:blipFill>
          <a:blip r:embed="rId7"/>
          <a:srcRect l="7311" t="13665" r="0" b="0"/>
          <a:stretch/>
        </p:blipFill>
        <p:spPr>
          <a:xfrm>
            <a:off x="6804000" y="4005360"/>
            <a:ext cx="1655640" cy="122400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55DC-8241-4282-B8D2-E60AD6F0565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"/>
          <p:cNvPicPr/>
          <p:nvPr/>
        </p:nvPicPr>
        <p:blipFill>
          <a:blip r:embed="rId8"/>
          <a:stretch/>
        </p:blipFill>
        <p:spPr>
          <a:xfrm>
            <a:off x="179280" y="1268280"/>
            <a:ext cx="3703680" cy="2089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"/>
          <p:cNvPicPr/>
          <p:nvPr/>
        </p:nvPicPr>
        <p:blipFill>
          <a:blip r:embed="rId9"/>
          <a:stretch/>
        </p:blipFill>
        <p:spPr>
          <a:xfrm>
            <a:off x="179280" y="4257720"/>
            <a:ext cx="3745080" cy="2124000"/>
          </a:xfrm>
          <a:prstGeom prst="rect">
            <a:avLst/>
          </a:prstGeom>
          <a:ln w="0">
            <a:noFill/>
          </a:ln>
        </p:spPr>
      </p:pic>
      <p:grpSp>
        <p:nvGrpSpPr>
          <p:cNvPr id="284" name="Cloud Callout 12"/>
          <p:cNvGrpSpPr/>
          <p:nvPr/>
        </p:nvGrpSpPr>
        <p:grpSpPr>
          <a:xfrm>
            <a:off x="755640" y="3395520"/>
            <a:ext cx="4675320" cy="1871640"/>
            <a:chOff x="755640" y="3395520"/>
            <a:chExt cx="4675320" cy="1871640"/>
          </a:xfrm>
        </p:grpSpPr>
        <p:pic>
          <p:nvPicPr>
            <p:cNvPr id="285" name="Cloud Callout 12" descr=""/>
            <p:cNvPicPr/>
            <p:nvPr/>
          </p:nvPicPr>
          <p:blipFill>
            <a:blip r:embed="rId10"/>
            <a:stretch/>
          </p:blipFill>
          <p:spPr>
            <a:xfrm>
              <a:off x="755640" y="3395520"/>
              <a:ext cx="46753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452600" y="3657600"/>
              <a:ext cx="2963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S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是否適宜盛載滾燙開水及油炸食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Cloud Callout 13"/>
          <p:cNvGrpSpPr/>
          <p:nvPr/>
        </p:nvGrpSpPr>
        <p:grpSpPr>
          <a:xfrm>
            <a:off x="1762200" y="298440"/>
            <a:ext cx="4314600" cy="1701720"/>
            <a:chOff x="1762200" y="298440"/>
            <a:chExt cx="4314600" cy="1701720"/>
          </a:xfrm>
        </p:grpSpPr>
        <p:pic>
          <p:nvPicPr>
            <p:cNvPr id="288" name="Cloud Callout 13" descr=""/>
            <p:cNvPicPr/>
            <p:nvPr/>
          </p:nvPicPr>
          <p:blipFill>
            <a:blip r:embed="rId11"/>
            <a:stretch/>
          </p:blipFill>
          <p:spPr>
            <a:xfrm>
              <a:off x="1762200" y="298440"/>
              <a:ext cx="431460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411280" y="539640"/>
              <a:ext cx="27291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如何分別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P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和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E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2A號直條紋紅白藍尼龍袋22&quot;+12&quot;X26&quot; (1個)"/>
          <p:cNvPicPr/>
          <p:nvPr/>
        </p:nvPicPr>
        <p:blipFill>
          <a:blip r:embed="rId1"/>
          <a:srcRect l="14174" t="0" r="19681" b="0"/>
          <a:stretch/>
        </p:blipFill>
        <p:spPr>
          <a:xfrm>
            <a:off x="5076720" y="2565360"/>
            <a:ext cx="3024360" cy="388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7 OTHER - 3.jpg"/>
          <p:cNvPicPr/>
          <p:nvPr/>
        </p:nvPicPr>
        <p:blipFill>
          <a:blip r:embed="rId2"/>
          <a:srcRect l="3611" t="18504" r="2195" b="11144"/>
          <a:stretch/>
        </p:blipFill>
        <p:spPr>
          <a:xfrm>
            <a:off x="1044720" y="407664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7 PC.JPG"/>
          <p:cNvPicPr/>
          <p:nvPr/>
        </p:nvPicPr>
        <p:blipFill>
          <a:blip r:embed="rId3"/>
          <a:srcRect l="14064" t="8406" r="15660" b="3403"/>
          <a:stretch/>
        </p:blipFill>
        <p:spPr>
          <a:xfrm>
            <a:off x="3708360" y="4076640"/>
            <a:ext cx="1368360" cy="229716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E23C-CF6E-459F-852B-51F4D9DB5D12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971640" y="1268280"/>
            <a:ext cx="4248000" cy="2641680"/>
          </a:xfrm>
          <a:prstGeom prst="rect">
            <a:avLst/>
          </a:prstGeom>
          <a:ln w="0">
            <a:noFill/>
          </a:ln>
        </p:spPr>
      </p:pic>
      <p:sp>
        <p:nvSpPr>
          <p:cNvPr id="296" name="Cloud Callout 6"/>
          <p:cNvSpPr/>
          <p:nvPr/>
        </p:nvSpPr>
        <p:spPr>
          <a:xfrm>
            <a:off x="4788000" y="692280"/>
            <a:ext cx="4176720" cy="180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eorgia"/>
              </a:rPr>
              <a:t>混合塑料在回收處理上會否帶來困難？為甚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1:24:44Z</dcterms:created>
  <dc:creator>HKIEd</dc:creator>
  <dc:description/>
  <dc:language>en-US</dc:language>
  <cp:lastModifiedBy>HKIEd</cp:lastModifiedBy>
  <dcterms:modified xsi:type="dcterms:W3CDTF">2013-02-25T01:58:07Z</dcterms:modified>
  <cp:revision>186</cp:revision>
  <dc:subject/>
  <dc:title>課節五：回收塑膠，不分你我他</dc:title>
</cp:coreProperties>
</file>